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<Relationship Id="rId20" Type="http://schemas.openxmlformats.org/officeDocument/2006/relationships/slideLayout" Target="../slideLayouts/slideLayout2.xml"/><Relationship Id="rId21" Type="http://schemas.openxmlformats.org/officeDocument/2006/relationships/slideLayout" Target="../slideLayouts/slideLayout3.xml"/><Relationship Id="rId22" Type="http://schemas.openxmlformats.org/officeDocument/2006/relationships/slideLayout" Target="../slideLayouts/slideLayout4.xml"/><Relationship Id="rId23" Type="http://schemas.openxmlformats.org/officeDocument/2006/relationships/slideLayout" Target="../slideLayouts/slideLayout5.xml"/><Relationship Id="rId24" Type="http://schemas.openxmlformats.org/officeDocument/2006/relationships/slideLayout" Target="../slideLayouts/slideLayout6.xml"/><Relationship Id="rId25" Type="http://schemas.openxmlformats.org/officeDocument/2006/relationships/slideLayout" Target="../slideLayouts/slideLayout7.xml"/><Relationship Id="rId26" Type="http://schemas.openxmlformats.org/officeDocument/2006/relationships/slideLayout" Target="../slideLayouts/slideLayout8.xml"/><Relationship Id="rId27" Type="http://schemas.openxmlformats.org/officeDocument/2006/relationships/slideLayout" Target="../slideLayouts/slideLayout9.xml"/><Relationship Id="rId28" Type="http://schemas.openxmlformats.org/officeDocument/2006/relationships/slideLayout" Target="../slideLayouts/slideLayout10.xml"/><Relationship Id="rId29" Type="http://schemas.openxmlformats.org/officeDocument/2006/relationships/slideLayout" Target="../slideLayouts/slideLayout11.xml"/><Relationship Id="rId3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292960" y="4114800"/>
            <a:ext cx="851040" cy="6984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292960" y="914400"/>
            <a:ext cx="851040" cy="6984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8292960" y="1981080"/>
            <a:ext cx="851040" cy="6987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8292960" y="3048120"/>
            <a:ext cx="851040" cy="69840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150840" y="6114960"/>
            <a:ext cx="1754280" cy="743040"/>
            <a:chOff x="150840" y="6114960"/>
            <a:chExt cx="1754280" cy="743040"/>
          </a:xfrm>
        </p:grpSpPr>
        <p:sp>
          <p:nvSpPr>
            <p:cNvPr id="5" name=""/>
            <p:cNvSpPr/>
            <p:nvPr/>
          </p:nvSpPr>
          <p:spPr>
            <a:xfrm>
              <a:off x="152280" y="6535800"/>
              <a:ext cx="47880" cy="27144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2280" y="6535800"/>
              <a:ext cx="47880" cy="27144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00160" y="6535800"/>
              <a:ext cx="44280" cy="27144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00160" y="6535800"/>
              <a:ext cx="44280" cy="27144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6040" y="6114960"/>
              <a:ext cx="44640" cy="55080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50840" y="6826320"/>
              <a:ext cx="93600" cy="316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4080" y="6829560"/>
              <a:ext cx="88920" cy="2520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58840" y="6343560"/>
              <a:ext cx="152280" cy="1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20840" y="6386400"/>
              <a:ext cx="122040" cy="1238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7560" y="6386400"/>
              <a:ext cx="117720" cy="1238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74640" y="6386400"/>
              <a:ext cx="79560" cy="1177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54200" y="6386400"/>
              <a:ext cx="117360" cy="16200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5960" y="6343560"/>
              <a:ext cx="39600" cy="16056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30240" y="6386400"/>
              <a:ext cx="117360" cy="1238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66680" y="6343560"/>
              <a:ext cx="39960" cy="1605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69920" y="6346800"/>
              <a:ext cx="33480" cy="1540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125360" y="6386400"/>
              <a:ext cx="108000" cy="11772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25360" y="6386400"/>
              <a:ext cx="108000" cy="11772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243080" y="6386400"/>
              <a:ext cx="112680" cy="11772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243080" y="6386400"/>
              <a:ext cx="112680" cy="11772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55760" y="6356520"/>
              <a:ext cx="77760" cy="14760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355760" y="6356520"/>
              <a:ext cx="77760" cy="14760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81120" y="6386400"/>
              <a:ext cx="112680" cy="11772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581120" y="6386400"/>
              <a:ext cx="112680" cy="11772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703520" y="6356520"/>
              <a:ext cx="77760" cy="14760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703520" y="6356520"/>
              <a:ext cx="77760" cy="14760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449360" y="6343560"/>
              <a:ext cx="38160" cy="16056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450800" y="6389640"/>
              <a:ext cx="35280" cy="11124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450800" y="6346800"/>
              <a:ext cx="35280" cy="2376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492200" y="6356520"/>
              <a:ext cx="79560" cy="14760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492200" y="6356520"/>
              <a:ext cx="79560" cy="14760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785960" y="6386400"/>
              <a:ext cx="119160" cy="11772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785960" y="6386400"/>
              <a:ext cx="119160" cy="11772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820880" y="6411960"/>
              <a:ext cx="44280" cy="2376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357120" y="6572160"/>
              <a:ext cx="117720" cy="12384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57120" y="6572160"/>
              <a:ext cx="117720" cy="12384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92040" y="6603840"/>
              <a:ext cx="42840" cy="6192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74840" y="6535800"/>
              <a:ext cx="77760" cy="15408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74840" y="6535800"/>
              <a:ext cx="77760" cy="15408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73120" y="6535800"/>
              <a:ext cx="136440" cy="1540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4640" y="6572160"/>
              <a:ext cx="123840" cy="1238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03160" y="6572160"/>
              <a:ext cx="117720" cy="12384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30240" y="6535800"/>
              <a:ext cx="112680" cy="1540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62000" y="6572160"/>
              <a:ext cx="112680" cy="11772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2000" y="6572160"/>
              <a:ext cx="112680" cy="11772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84400" y="6572160"/>
              <a:ext cx="117360" cy="12384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84400" y="6572160"/>
              <a:ext cx="117360" cy="12384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9320" y="6603840"/>
              <a:ext cx="48960" cy="6192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11120" y="6535800"/>
              <a:ext cx="39960" cy="15408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14360" y="6539040"/>
              <a:ext cx="33480" cy="147600"/>
            </a:xfrm>
            <a:prstGeom prst="rect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60440" y="6572160"/>
              <a:ext cx="117360" cy="12384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60440" y="6572160"/>
              <a:ext cx="117360" cy="12384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95360" y="6603840"/>
              <a:ext cx="49320" cy="6192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87520" y="6572160"/>
              <a:ext cx="112680" cy="15552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87520" y="6572160"/>
              <a:ext cx="112680" cy="15552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522440" y="6603840"/>
              <a:ext cx="44280" cy="5580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09560" y="6578640"/>
              <a:ext cx="123840" cy="14904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09560" y="6578640"/>
              <a:ext cx="123840" cy="149040"/>
            </a:xfrm>
            <a:prstGeom prst="pie">
              <a:avLst/>
            </a:prstGeom>
            <a:noFill/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7094520" y="6226200"/>
            <a:ext cx="1447920" cy="522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8648640" y="480960"/>
            <a:ext cx="247680" cy="276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8648640" y="1023840"/>
            <a:ext cx="247680" cy="276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8634240" y="1576440"/>
            <a:ext cx="247680" cy="276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8643960" y="2133720"/>
            <a:ext cx="247680" cy="276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8653320" y="2690640"/>
            <a:ext cx="247680" cy="276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2"/>
          <a:stretch/>
        </p:blipFill>
        <p:spPr>
          <a:xfrm>
            <a:off x="8648640" y="3238560"/>
            <a:ext cx="247680" cy="276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8643960" y="3786120"/>
            <a:ext cx="247680" cy="276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4"/>
          <a:stretch/>
        </p:blipFill>
        <p:spPr>
          <a:xfrm>
            <a:off x="8639280" y="4334040"/>
            <a:ext cx="247680" cy="276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5"/>
          <a:stretch/>
        </p:blipFill>
        <p:spPr>
          <a:xfrm>
            <a:off x="8643960" y="4881600"/>
            <a:ext cx="247680" cy="276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6"/>
          <a:stretch/>
        </p:blipFill>
        <p:spPr>
          <a:xfrm>
            <a:off x="8639280" y="5424480"/>
            <a:ext cx="247680" cy="276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7"/>
          <a:stretch/>
        </p:blipFill>
        <p:spPr>
          <a:xfrm>
            <a:off x="8643960" y="5977080"/>
            <a:ext cx="247680" cy="276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8"/>
          <a:stretch/>
        </p:blipFill>
        <p:spPr>
          <a:xfrm>
            <a:off x="4229280" y="6146640"/>
            <a:ext cx="669600" cy="685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26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398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7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7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70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9"/>
    <p:sldLayoutId id="2147483650" r:id="rId20"/>
    <p:sldLayoutId id="2147483651" r:id="rId21"/>
    <p:sldLayoutId id="2147483652" r:id="rId22"/>
    <p:sldLayoutId id="2147483653" r:id="rId23"/>
    <p:sldLayoutId id="2147483654" r:id="rId24"/>
    <p:sldLayoutId id="2147483655" r:id="rId25"/>
    <p:sldLayoutId id="2147483656" r:id="rId26"/>
    <p:sldLayoutId id="2147483657" r:id="rId27"/>
    <p:sldLayoutId id="2147483658" r:id="rId28"/>
    <p:sldLayoutId id="2147483659" r:id="rId29"/>
    <p:sldLayoutId id="2147483660" r:id="rId3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echnical issues of mapp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ghoon Yang / Frank W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mplate and ins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IS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late is requi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652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g, part, located_part, located_part_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late is op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652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cElementType, Ifc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12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ransla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ased on Use Ca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Based on Current pract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Differences of concer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ference vs. Explicit val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Vertical integration vs. Horizontal integ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ransla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cope of translato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ranslator 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oolk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onceptual differences between mode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verall differen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eometry repres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n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emplate and inst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cope of Trans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87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C1: IFC steel analysis to CIS/2 analysis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C2: IFC steel design to CIS/2 desig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C3: CIS/2 manufacturing model to IFC desig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import/export capability of  CIS/2 Ap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nslator ty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ype of softwa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ncorporate with application: DLL typ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tandalone application: Stand alone executable (Win32 console typ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Possibility : Web service for transl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ossible featur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Selectable entity typ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eeware, Open sour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Individual companies takes over maintenance and suppor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Maybe on sourceforge.net afterwar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EP Toolk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lator uses toolkit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toolk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uroSTE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K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-Develo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house bui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9320" y="4330800"/>
            <a:ext cx="321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 marL="9036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&lt; Current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8543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ceptual differences between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verall dif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1600200"/>
          <a:ext cx="7619760" cy="4102200"/>
        </p:xfrm>
        <a:graphic>
          <a:graphicData uri="http://schemas.openxmlformats.org/drawingml/2006/table">
            <a:tbl>
              <a:tblPr/>
              <a:tblGrid>
                <a:gridCol w="1447560"/>
                <a:gridCol w="3138480"/>
                <a:gridCol w="3033720"/>
              </a:tblGrid>
              <a:tr h="45720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IS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marL="39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52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chit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tical inte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orizontal inte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sification of entity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 Object, Relation,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Proper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568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assed-by-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 must refer to external documen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rect pas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 self-suffic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gree of det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xplicit entity defi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1 entity types LPM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eneral form of entity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29 entity types IFC2X2a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ometry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S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ometry is embedded with other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icit geometry :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ometry handled separ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 geometry : IfcProduct.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geometry representations for one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ased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ept solid in IFC, section_profile in CIS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87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336600" indent="-33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IS/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ocal unit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ultiple units in one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652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sure_with_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652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em_reference, section_profile.item_name “WT5x11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IFC 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lobal unit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ngle unit system in one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652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ither Metric or Imper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astman</dc:creator>
  <dc:description/>
  <dc:language>en-US</dc:language>
  <cp:lastModifiedBy>User</cp:lastModifiedBy>
  <dcterms:modified xsi:type="dcterms:W3CDTF">2005-04-29T15:42:48Z</dcterms:modified>
  <cp:revision>2</cp:revision>
  <dc:subject/>
  <dc:title>PowerPoint Presentation</dc:title>
</cp:coreProperties>
</file>